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8C9-33A5-4A88-B0C9-CF5538D7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815-0451-43BD-AEF8-4DD6B58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3E5D3-B4AF-47EE-A08E-9E76564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D945C-03F8-44ED-89CF-C847E1F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4F5E0-F16F-44D9-9496-C52128F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47986-4B18-4C12-85F8-8C0C3240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AD908-E5BF-400A-AF0B-58D86F0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5509-7CB6-496E-B57B-37714657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ADDCC-E6D7-4766-94F4-589BEBD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BB3AB-6770-45E7-BCBA-24D1A0E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685F9-C069-427F-9A48-621B11BE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1E9DB-AEF0-4650-A4AE-42A5E798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901-0D74-42FE-BF39-2ECF00B4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3E2E-5FFB-4372-87BC-776D0470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5ABD7-CF7B-40E9-BEFF-5F339185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1AD0F-DEE3-4CA9-8882-3B4808EA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E4E65-52BD-4816-A31B-953D0FD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955D9-1FD8-497D-97D6-E93E51E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10EC6-0D29-4874-B3DF-90EE44E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38882-C43D-420B-9099-137D1DD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89859-67EB-44F0-8F62-EDAB2320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C32FB-C3B7-455D-9C1F-CF1122A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9CEFD-E2F7-4FC6-BD2D-1D1CFC3D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907-6D25-4831-B024-BCA6E99E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94590-7F24-4F5A-9B1B-F0201543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4A53B-DB0F-47B9-8A91-B8694137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1BAE8-57D5-401F-9C98-9972BA4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3A72-706B-4702-A1EB-76F04CB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D3A45-8F4C-4D6C-AE38-BC830F00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11A88-3EC9-4011-A63B-174D4E53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7EF1-1470-4779-A4A1-76B5B01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A527-A0DD-4C95-9CF1-A3E4A2C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2A0A7-64D3-4FA6-BE58-6D671B2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04EC0-0D76-47A9-8BF9-2CAA940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8E66-32D7-4EAA-AC0E-CA053743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7D16B-5CC0-4C9E-87E1-ACA0A98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80E92-D4F7-498B-94D3-051B40B6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A61E7-472B-4FF0-8CEC-EB1749A5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8DF25-4682-4DE0-AC7D-13E821C5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0DBA3-2A1D-4230-901E-BE219E1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4760F-730A-4429-9BFB-58FB777D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68339-92AC-4877-A589-938E526E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82FF6-6CA2-4CB1-B82A-F009707A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494F7-1B34-4C3C-AC1B-BB6E741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E65A7-6DAB-4946-9589-F1B873A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9D11-B12A-404F-8ECE-E7636BF0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E74D-6EF6-4D86-BD5D-230FF9DB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F700-A954-451C-B28E-39CC420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D27A4-535D-4FD7-8170-B19E937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9C07B-21C8-4441-A60D-909CFC30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91E70-2C78-410B-BE78-05E28B9B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A254D-EB81-4941-A256-20B71DEC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645D7-25FE-406D-A65B-943F768D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B1BC8-6191-432E-9025-A251C51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28D64-3075-4A7F-8257-B98D1FB4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BEFCC-04AA-46CC-98C3-BF2DAA1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E293-C743-4ECC-89F2-EEE1FBC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430C5-97A8-4B93-ABB0-80F14DD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E05D3-990D-4117-8613-49E7B67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51E71-962F-494A-A21B-15FB417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05DE2-901E-4F23-BA12-FA94AC8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3D47E-7C37-44AA-8F4C-A0412123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5A60D-967B-493B-82DF-D26C3B80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3E7C3-D0F8-4575-9A00-7C680F84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D0D251-1253-4988-94E5-655F5804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3A1C1-53C2-42A2-98D2-5659FF1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F4C71-ABBB-4B52-A151-F15B120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B7C-1B99-4B62-B15F-AB2333D3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E8F3E-21B1-48F4-8664-7E49E87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B26D0-7310-4CF7-8984-D58890E8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C5D40-010A-434B-8B9E-ED7D0FEC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62FE3-4A65-42F3-A702-93A8D12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75E41-C1CB-45D5-AAE0-06B259B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1FB619-310C-4FA6-AC99-D49E4D5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C5832-6DAF-4177-B2EE-1DED7CE2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0C3AF-2ADE-4010-8FDE-B2198625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4D29D-1350-470E-92E8-B9F667C5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4113C-8C7B-4A27-87EF-698DF02C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61A7-8556-467D-B735-F30ADB4F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E2C62-0FC5-4B51-A9BE-2CE6C48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837F7-D62E-4027-AC44-2E32002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E81CB-917E-4257-8DC6-E51C1FA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E4600-38D5-4917-8F2C-7E1654C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14C68-B6CC-43F3-83EB-FB919FCC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5A857-D09E-47AE-BAD5-1E5CEE19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D7C1B-7B40-4303-BA63-931D8F6C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62B75-A6F4-49C4-82A3-020A648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D2FB1-E78E-41DA-98CB-9018A29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3BFDD3-1B69-4046-AFCA-C8553D40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FD62-C0F7-4103-B1B2-1DD9B7CB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0B954-980E-4915-9337-AC6B151A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638B6-258C-4699-8481-00FA6DC1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D5115-3823-4FD2-8B70-5665110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51776-684B-4383-B632-DA90BFA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C9270-4FD3-47E6-B38C-861EAAD1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2A518-E89A-4B31-8562-D8C9E07D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A6420-754C-48F9-8784-71ED2534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AB909-911D-4C7D-80BD-63F780E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CAA55-DA4F-4C45-8413-370A644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A82F7-7758-413D-A4B8-126A597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C3C-6470-4098-BD7D-579FC15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0AE59-9D40-47B5-AC35-9672CB2B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8E1AE-573F-4B65-A90B-5ADDF400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FB5F1-2E0E-427E-9ACC-CB6D9B26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222F8-955E-4F48-A2E7-073D4BEF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98A0E-469B-4457-BD35-821CA461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8E2CD-1B7E-4437-B8E7-97417C93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808DF-5190-4496-9AB8-CD95C8D3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F52B1-AD2B-42F0-AEEF-D2C1319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3C975-1B39-4B21-9C8C-565E0E16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EE34C1-B70D-4261-86E4-33B4D49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1EB-308B-461A-AA5E-DB8803D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7B7-C795-409A-B0B0-26420B1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AA603-208B-4C19-9127-66EB541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1084B-056C-48AB-AA2E-85E337F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45913-4897-42FD-97C0-E5F80AF6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CCB4E-326A-45DE-8433-6F675F7A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E92807-67AB-4B41-8924-A69E5927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C114E-DEF6-442B-B065-DD3E44E4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CA6EC-3A69-41E5-9982-C9B7408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429299-DB4E-469A-BED1-393BFDA5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561EC-5B4F-4E15-A3FC-0DADDC5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AAB60-2CD7-4C4A-9444-19674A6D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87B1-B70B-41CF-B6A4-83B3717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56F20-34A9-419B-9DDC-C96DC69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DFE85-5E26-48E8-8DD7-C69AB9A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B7433-C4E0-4ACD-B821-B939506F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134918-CA77-4CB5-BB52-661B215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66ABF-581E-4B30-BD22-84EA20C5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25BBA-B609-4341-BAE1-D2F9BCF5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A48030-FC17-4470-B8D6-993E601A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DACC4-60E5-4D55-A6EA-C55C7612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135F1-B369-4232-8E48-4AFA9AAA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9BE84-3837-48C3-9DE9-6F636CB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1C77-FA64-4497-BBD4-CE1D9D0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95318-CDF1-4B12-8149-EEF9541E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E2E79-C1BD-4955-8338-C4C9FD8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C296F-F8BA-41FB-8E15-0A2F524F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D30FB0-47A2-4C43-886F-2E1A3F0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3D62F-13C0-4029-A60D-4E94022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024B5-EBED-4650-A385-FB96584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D55A4-04F3-4331-BD78-A57F71E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7E954-F1B7-46B7-B55B-38A5987A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48527-1759-4FA6-94A5-8EBA8397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D4D0B-CB28-4C05-A0BD-579A96BD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6006-4401-4415-A0CF-4CB99C83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AAA707-CDBA-4A55-AC18-8768A7C2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97E6E-818D-409E-BB04-51A28BE4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5D994B-753F-4F62-B6A0-964F054B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EB31D-021E-48E8-8B6E-C6BB1527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3C8CA-C8E8-4E8F-BD5D-86DF12B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69B08-5E16-401B-B11B-C605CDA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09CB24-E555-439B-B3AE-A52B78D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C7F50-09F9-4D3C-8F97-572974C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0AC3F-9925-42A3-9060-32E94DD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D0707-53B2-4D70-B546-C19C52D1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52C-BF23-4C53-B230-B432DB1F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1F88E-2014-4342-B6E7-FE95DC4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D053BF-9339-48FE-8AC0-664546B3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936AC-A85C-4243-9494-5402587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8C46E-36D9-4528-843E-4BCA25FD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A66AE6-F2DC-4F0F-8B3A-1F8AF965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713869-96C8-4237-BE15-2BBFD590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697C7-861A-42F3-9254-34777E35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ED0E9-939F-410A-9E9F-2D7CAB2E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DFEE3-4630-4117-B9D1-184F957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68C31A-3139-4322-85FE-9C83023F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587F-2062-47E3-A348-667F3BFB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48F3F-2540-4983-A5C1-EBB365E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93BDC-5C44-4F2B-9403-3187983E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79D03-1E23-4396-A8E7-2FE8D02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7AD8-13FC-4064-8214-6327363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B09E-D810-4B41-9EC7-C4C174A3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56E2-D762-4EAA-88E7-059773C8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3791-7E83-46AA-AFA8-8452CD2B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B42-5DB1-4EAF-8978-02A6F0D2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71D8-70B1-46F7-941C-8B88060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194B-1FFB-4DEA-935A-A8505D4E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4927-78B1-4C4D-B5E7-6A61F3A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46AF7-1858-4601-A906-3E779A7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0A7C-8454-4F25-B6E1-BD18DEF8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9C69-35D9-41DD-9C34-63E1CDFA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59F9-7E71-4025-9465-CB2F367D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CED5-525F-4344-B06B-CEEBE314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E0F9C-6CA9-449E-9572-4D2C768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1DE0B-1505-4CC5-A2BF-C0AFC479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1E2-63F0-4D71-A67B-C3EF2516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28AF-A2D5-4924-AD67-077C949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7950-DB14-4E8A-AF26-FB7CC68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BE8E-67B3-4993-ADB0-60E1627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3F44-9ED2-42EB-9DBD-A059C00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4F43-984B-4AB6-B1FF-11239AC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8E29C-1FEE-48B7-B38C-40BEB9A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EB7E-E682-4C91-9501-674FE19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63CB-41B1-44D0-95CA-6EF82D21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BA384-33EE-46FA-8023-C49D5362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3011F-22EE-4993-B000-A1617C7A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58E-F333-46F6-853A-40E9F875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B9E3-039B-46B5-A42D-DC220A2B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EE8A-C867-4BF7-BAEF-A65BA0AB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28A0-0928-47F3-8348-9E44664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DCA13-7AA7-4DA9-AF2C-3E90D505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8A726-6609-4C65-B0D4-205BCE1C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1F40-E287-4134-9095-0FF840D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F429F-AA2D-4F9A-BEAD-C3D96A2F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FF4F-9C9A-40CF-8629-F0F058C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6D4B-2C17-4F3F-BD3C-9B79479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7BC1-984C-4966-8E1A-125DCE65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C01-A903-4D64-B7D8-39C77B1B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5D1A-E39F-4DE7-91C8-74EDF024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864A-552D-4A59-A419-842A0373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73C6-DD25-44C9-900F-A3AEB7B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7A519-33E2-4D92-8339-A4AD482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F30E5-2986-486D-8B3D-F636EA62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6EE54-01C9-4991-94E2-0C9FD2D5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F15EA-CB88-44C8-8A56-56231D7F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CC9D-1492-4F75-AE36-DE4B89F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5BB1-A7FE-4A48-B519-5C7A3A86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1959-0B66-488C-A8C2-F5813EF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622-2F53-4474-8BCF-E6C3FD9A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A3804-B89A-44FE-8C79-1C53E805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4162-B42B-4A5E-89AE-BC547939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062C8-3516-4667-9D24-0EFAF3EE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6B27E-0D61-4C7E-9994-09DD70A5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8EAEC-F6C4-4054-A078-711B705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0B5E-B201-4BB8-9801-C0964C2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A1FE-7CEB-41C5-95E8-EB04E03E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0DB9-1C25-4841-A31D-ECE92CBD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0DF8-451E-4D57-9562-17A69D86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7EE3-ACD2-40A6-A38B-649BAC0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459-6864-40FE-8596-25B2E4EF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401B-E995-47A6-8166-71C1707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90A5-F519-4F78-A04D-05B16B48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DFD7-04B1-404D-9716-7ADF5263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FE20C-CE74-42AC-B95B-E6F62851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655A-C12E-4828-9544-FFB7A60C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34E95-C04A-4100-90D8-D24FBB3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A92B-EF0B-4D47-A34B-8580634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327C1-9A32-4964-A4E8-9C0652E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3298A-9C0F-485F-87F9-E8D49A13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25DB-FEFA-4A02-9A3A-1207DDE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CE8-1F1E-4F0B-97C0-00BD6B8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FB56-67D4-4D9C-B283-8122FCA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9BEB4-8293-47A3-AC36-1FFAC8C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7DC5-7467-435D-B617-4DC9F1E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2A75-E1CA-4340-889E-689225A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64C10-FDA4-4E58-A330-D982BF8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DE3B-64F3-4613-A61A-1ADFBA82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015D-34B7-410C-90D8-C3F0915C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6BFF2-151D-4DC5-A51A-165251F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48908-8BF2-478A-98E7-27321FD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8E96-2C1D-43DC-B0EA-CCEE2378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CA4-E794-4F46-AF00-6A80426C2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F3AB-F950-4DD3-B99D-DB52D024D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BFA-A9C4-43FB-82E5-1D8D7FAE5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4546-9142-4DCD-A22C-AA2A83AAFA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7E1-DD01-487D-B9EE-437C9BB271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0AD-4BAA-4AFC-8EF6-43A53FBDE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ACF-7FA5-4CCE-942D-D55CCECC1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0B19-9510-4411-927B-08AA9923B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2616-1962-424C-B5D2-3066C5105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7D2-DF69-431E-8BD0-E08699E36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A32D-9D85-462B-9EBF-B7AE9435CE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267F-82EB-41AA-8093-C44E4F578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4DB-4BD4-4044-9251-90B60CB78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6ACA-7EED-48C9-81D9-6F8D4B5796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49D-D9C5-4473-91BF-7DEB9B9A9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D54-BCDE-46EF-A086-BBD34F4A2C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9F8-5005-4451-A8DA-058E46E1C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436-CC9B-45E3-8250-BC6E31B266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C03-9017-4D00-97E2-ED49F1FD9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E00-2368-4DF2-BB1C-8B46C88D8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8A1-086A-4B52-AE7E-5C35DEC2E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B3F0-77CE-4958-AB87-8F03E6C02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C9C9-AFB8-466E-A9BF-3379ABB48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210-0DB3-458E-A9AF-4240FF4D5A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3321-78C9-4C19-B5D4-898A6863C0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B2DE-C51D-4617-8068-CF64CF8C4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75E-3E24-433C-A8AE-6A901408F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52EA-5E57-4F3D-91E8-B4D3F5F23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C18C-96C3-43DE-B12D-225EB31E5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DE86-1EFE-4651-AE28-60574B800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3B18-3E4D-4C82-8456-2A38FFB76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8EA-A8A0-46A6-A473-85BAF21F1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1340-C268-43C3-9DE4-26F7BFC0F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20B-AD70-4603-B534-FAABDFC20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E43-EF8D-4F8E-9D96-93D90BD33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9F11-3105-4CD3-96F6-9A3E5FC1E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1E0-AA12-46B3-B991-C3F503B04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38D2-7F5C-4C08-B76B-643B128C6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1ABD-B60A-41BA-8542-B9F4948B1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B94-9FCE-4B50-B5B2-CF9062554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552760" y="2967120"/>
            <a:ext cx="40384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23840" y="1247760"/>
            <a:ext cx="8896320" cy="4362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340000" y="2646360"/>
            <a:ext cx="719280" cy="249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364000" y="2655720"/>
            <a:ext cx="719280" cy="249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028000" y="2655720"/>
            <a:ext cx="719280" cy="249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979640" y="2987640"/>
            <a:ext cx="719280" cy="249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148360" y="2987640"/>
            <a:ext cx="718920" cy="249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763640" y="3649680"/>
            <a:ext cx="719280" cy="249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4932360" y="3645000"/>
            <a:ext cx="719280" cy="249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7812000" y="3654360"/>
            <a:ext cx="719280" cy="249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1835280" y="3971880"/>
            <a:ext cx="1008000" cy="249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4932360" y="3971880"/>
            <a:ext cx="1008000" cy="249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594036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77407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90520" y="1752480"/>
            <a:ext cx="8561520" cy="3353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042920" y="313200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042920" y="345744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042920" y="3798720"/>
            <a:ext cx="360360" cy="249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042920" y="41306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1042920" y="444672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1000080" y="4797360"/>
            <a:ext cx="360360" cy="2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41400" y="1181160"/>
            <a:ext cx="90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21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